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58400" cy="7772400"/>
  <p:notesSz cx="6670675" cy="9925050"/>
  <p:custShowLst>
    <p:custShow name="Методические материалы" id="0">
      <p:sldLst>
        <p:sld r:id="rId14"/>
      </p:sldLst>
    </p:custShow>
    <p:custShow name="Дидактические материалы" id="1">
      <p:sldLst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1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AutoShape 2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dt" idx="28"/>
          </p:nvPr>
        </p:nvSpPr>
        <p:spPr>
          <a:xfrm>
            <a:off x="3780000" y="-360"/>
            <a:ext cx="2885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Img"/>
          </p:nvPr>
        </p:nvSpPr>
        <p:spPr>
          <a:xfrm>
            <a:off x="925200" y="744480"/>
            <a:ext cx="481500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8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ftr" idx="29"/>
          </p:nvPr>
        </p:nvSpPr>
        <p:spPr>
          <a:xfrm>
            <a:off x="-360" y="9429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 type="sldNum" idx="30"/>
          </p:nvPr>
        </p:nvSpPr>
        <p:spPr>
          <a:xfrm>
            <a:off x="3780000" y="9429480"/>
            <a:ext cx="2885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45 Helvetica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8D21A-D463-49DC-B0CA-58589C9B918D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71BC6-5333-471D-AB4D-AAAB40DDC84A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FBC0C-EE2A-4939-A495-ED995BAC1B7F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DB87A-7D61-4EE8-AB55-C1A4BF0024F7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1A0E3-0F44-43C2-BBB3-851AC28FDCD5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DA9C5-627A-4EC5-AA35-F84D8B4D892A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AF229-6A66-4D1A-8AA7-AC5ABCB3CCE4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3E283-1681-4EF6-8298-C1FFA19563D3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A2F-1938-4A8E-850D-A2A03D7A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1CA-3744-4EC7-AD16-79209ADD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7E36A-D048-4BD2-BD20-00901228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23105-82C8-4FD2-930E-07B6AF61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57202-E274-4CE5-AE5E-D42452F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640F1-47DE-41E0-AF9B-2BF440D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7E0C9-6FC5-4BAC-9A5F-B55BD421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0E331-B998-44B0-8315-861A9BF3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0A80F-8EBA-4041-B961-F5AB2093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D39A1-B870-4FFC-BE32-F43F95B0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2504F-3D6F-4B57-A3B2-4857E0B4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4A4-0AE9-4072-80FB-5998E1B8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8EA-BA5F-44D6-89EA-B3428DA8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A914-2356-4207-A494-E25565B7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C86E-21DF-4ED9-B3F1-EB1EABD9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16A7-4D2F-4FAB-9D1E-39DE68F8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9146-A65C-4D81-93DE-39C035A5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ED64-69F9-45C5-AE2F-B97291F3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F60B-E81F-436B-B26F-FFB97F44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9AAF-7CD4-4112-89CD-3777EDEC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AF8-909F-407C-BFC3-B566A5E1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D70E-EE57-4D11-915C-6A1F153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D853-2AD0-49A7-9784-FC29ED2F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F138-6009-4EE6-88C1-6C60B9A7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D642-1F9C-4E6D-BFB7-CB07348C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6980-BE12-429F-A308-67C9DF72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B505-88E3-4957-8A02-3936E53B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94F6-FA49-42B6-BA5B-6BCF6E4F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5E675-82F9-4243-A2CE-F88495F1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4A7C-6C3D-47FD-870F-F0CD4E54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3E8F-A132-4EFD-843D-4F077F07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1DC-1E69-4D66-831A-758EC62E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A28C-066F-4CFA-8E34-E93B604A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6A9BB-3EA0-4961-95BE-CDA3C44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B7BE5-2277-4ACE-BBBE-1613763E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AF29-B4C5-4CED-AA41-97448BB5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4705-1A74-49B9-B479-21EDD6B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3BF9-3F21-4081-AC8E-46D0F689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51A6-8D4A-41F4-8688-EC1CBF72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105A-CEA9-488A-81EE-7A94A3F2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83E8-59F3-4040-895C-CFDC008E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B238-9D89-4AA0-A4BD-A5BB2960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BA8-00B1-483E-B3CF-F1F05C75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1E7EC-72A8-450B-A105-E789B684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4CE80-0343-48BF-9C42-53957124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A02AA-DAD0-4EC6-9F78-8D13F877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387F4-937A-4D94-AC7B-113EC7F7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FD57-F708-4D39-9D9A-D00FF97C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195B-11C3-4CA4-9CDB-8A575410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6A38-7EED-4003-A7F7-3C1F509B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AB79-769D-4AC0-B5B4-16B944B1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72D5-539B-4EA3-9A1A-77083907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7F2B1-9E5C-484A-AD6A-60EB4C71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1FB-DE6B-4F7D-9AE7-5F82EAB4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4306A-1839-4FF8-B38B-C3E00DC4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6493-B15F-4B2F-8B02-80B37301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C593-4E23-4316-A10F-00748B2C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648D-7945-476B-AF36-64C572C1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7C45D-70B8-4F36-8E60-A5700509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9610E-0F57-4B3F-8C96-08C51758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9D28B-B1D8-494E-B346-77ED7C19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10CA-4E7E-43AB-9695-257C4807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8DA0C-907B-4EBA-B043-57FAD400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24694-BFF2-4B0E-8965-E711DD03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D6F-F7DA-4BAD-8941-0AC7A5E9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34C3A-BFB2-4E95-B7C1-D1E64FB4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EF5AF-4CFC-41F9-97CA-534FC052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AE0FE-C9A9-4B05-9A71-BD0027E4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B44A0-E705-4172-88B6-33F2473B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8D6E5-0D26-46EB-85A9-0DC7848C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05007-2F30-48F1-A55F-F25C7B23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69C9E-7612-46CC-93A6-27F4975E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3D6F-CFD3-49E0-BBE1-48766AA1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A68B7-8CED-4A6E-9FAA-A1ACB37D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C1DEF-1578-4E7E-A358-A0B15C1B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160-30B6-417D-8B15-9069575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5981-CB55-4DB7-AE70-BB9C468F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F01C0-72E2-440C-B019-10ECD7C6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E1882-2B31-424F-B7AD-4E137CE8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AE7D2-7873-4A69-B4BF-9D7F1701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F04B0-6BFF-4233-B13C-633853F4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62DFA-2543-46B0-B40A-36A6CABC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2D8DD-457D-4CD2-94D8-DC02A656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AC7BC-B211-4CB6-BC48-9DA0F402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995E3-FCE9-47FB-A9E0-512DE630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BE4A4-E9F1-4DF9-98AA-72E889BA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428-E8FC-49E0-ADA2-E20C1BCB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46A26-744D-4B2F-9797-244C9517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49D92-ED08-40B6-8D6F-DE43E88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121DE-A369-4830-B70D-59B84BBD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1498A-202B-48E6-9EC2-D5EE389F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DF8F4-0C3E-4E5E-8E98-DD95019A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75A27-3046-4443-8ABF-AD9D6B83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AD0CD-8A59-4002-9B2B-CC7F85CC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A3A51-F3AF-48FF-B64F-4E5099D2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43956-A669-4C3B-A7B1-FAF7DD17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7140C-300B-40EC-99E5-27E7BFFD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91D-A5A9-4B63-BE13-7A7F4F1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A72B3-4387-40A3-908F-627F9E22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67A5F-9670-4F23-BD9A-C26BA93D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BED79-5749-4637-B62D-CC21AC07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377C5-B30D-4CA4-91AD-4A84D8B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A0E95-E071-428A-BABF-9DE5E21C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1A06F-A507-4963-9968-B84B9F74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8B08D-4340-4E49-887A-A7A7AF97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795F9-A4A6-4775-AC2E-5F7B99EE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D3368-005F-4C3E-95D8-19A2B2ED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AD9F6-B59A-4263-83FA-C95C6851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8531280" cy="1292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62120" y="7086240"/>
            <a:ext cx="2054160" cy="531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7086240"/>
            <a:ext cx="3197160" cy="531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520" y="7086240"/>
            <a:ext cx="2054520" cy="531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D9E1E7-576C-40C3-9C69-F79BFB16C248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rcRect l="0" t="84" r="0" b="0"/>
          <a:stretch/>
        </p:blipFill>
        <p:spPr>
          <a:xfrm>
            <a:off x="228600" y="228600"/>
            <a:ext cx="18716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2"/>
          <p:cNvSpPr/>
          <p:nvPr/>
        </p:nvSpPr>
        <p:spPr>
          <a:xfrm>
            <a:off x="787320" y="5668920"/>
            <a:ext cx="4183200" cy="163512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олилиния 11"/>
          <p:cNvSpPr/>
          <p:nvPr/>
        </p:nvSpPr>
        <p:spPr>
          <a:xfrm>
            <a:off x="-58680" y="6556320"/>
            <a:ext cx="4181400" cy="9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Прямоугольный треугольник 13"/>
          <p:cNvGrpSpPr/>
          <p:nvPr/>
        </p:nvGrpSpPr>
        <p:grpSpPr>
          <a:xfrm>
            <a:off x="-12600" y="6559560"/>
            <a:ext cx="3755880" cy="1236600"/>
            <a:chOff x="-12600" y="6559560"/>
            <a:chExt cx="3755880" cy="1236600"/>
          </a:xfrm>
        </p:grpSpPr>
        <p:pic>
          <p:nvPicPr>
            <p:cNvPr id="4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6559560"/>
              <a:ext cx="3755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04920" y="7278840"/>
              <a:ext cx="18716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6546960"/>
            <a:ext cx="3762360" cy="1255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3794E8-C046-4E87-A9F8-91B2F02731B2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10"/>
          <p:cNvSpPr/>
          <p:nvPr/>
        </p:nvSpPr>
        <p:spPr>
          <a:xfrm>
            <a:off x="0" y="5286240"/>
            <a:ext cx="1006632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Группа 15"/>
          <p:cNvGrpSpPr/>
          <p:nvPr/>
        </p:nvGrpSpPr>
        <p:grpSpPr>
          <a:xfrm>
            <a:off x="-4680" y="5613480"/>
            <a:ext cx="10063080" cy="2166840"/>
            <a:chOff x="-4680" y="5613480"/>
            <a:chExt cx="10063080" cy="2166840"/>
          </a:xfrm>
        </p:grpSpPr>
        <p:sp>
          <p:nvSpPr>
            <p:cNvPr id="90" name="Полилиния 16"/>
            <p:cNvSpPr/>
            <p:nvPr/>
          </p:nvSpPr>
          <p:spPr>
            <a:xfrm>
              <a:off x="1861200" y="5613480"/>
              <a:ext cx="8191080" cy="55188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Полилиния 18"/>
            <p:cNvSpPr/>
            <p:nvPr/>
          </p:nvSpPr>
          <p:spPr>
            <a:xfrm>
              <a:off x="46080" y="5935320"/>
              <a:ext cx="10006200" cy="89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Полилиния 19"/>
            <p:cNvGrpSpPr/>
            <p:nvPr/>
          </p:nvGrpSpPr>
          <p:grpSpPr>
            <a:xfrm>
              <a:off x="1080" y="5663160"/>
              <a:ext cx="10057320" cy="2117160"/>
              <a:chOff x="1080" y="5663160"/>
              <a:chExt cx="10057320" cy="2117160"/>
            </a:xfrm>
          </p:grpSpPr>
          <p:pic>
            <p:nvPicPr>
              <p:cNvPr id="93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5663160"/>
                <a:ext cx="10057320" cy="21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6840" y="5667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95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4680" y="5650920"/>
              <a:ext cx="10063080" cy="91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F698D8-E1C4-4C94-8C49-F9E50E366892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олилиния 12"/>
          <p:cNvSpPr/>
          <p:nvPr/>
        </p:nvSpPr>
        <p:spPr>
          <a:xfrm>
            <a:off x="787320" y="5668920"/>
            <a:ext cx="4183200" cy="163512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Полилиния 11"/>
          <p:cNvSpPr/>
          <p:nvPr/>
        </p:nvSpPr>
        <p:spPr>
          <a:xfrm>
            <a:off x="-58680" y="6556320"/>
            <a:ext cx="4181400" cy="9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Прямоугольный треугольник 13"/>
          <p:cNvGrpSpPr/>
          <p:nvPr/>
        </p:nvGrpSpPr>
        <p:grpSpPr>
          <a:xfrm>
            <a:off x="-12600" y="6559560"/>
            <a:ext cx="3755880" cy="1236600"/>
            <a:chOff x="-12600" y="6559560"/>
            <a:chExt cx="3755880" cy="1236600"/>
          </a:xfrm>
        </p:grpSpPr>
        <p:pic>
          <p:nvPicPr>
            <p:cNvPr id="14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559560"/>
              <a:ext cx="3755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04920" y="7278840"/>
              <a:ext cx="18716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546960"/>
            <a:ext cx="3762360" cy="1255680"/>
          </a:xfrm>
          <a:prstGeom prst="rect">
            <a:avLst/>
          </a:prstGeom>
          <a:ln w="0">
            <a:noFill/>
          </a:ln>
        </p:spPr>
      </p:pic>
      <p:sp>
        <p:nvSpPr>
          <p:cNvPr id="143" name="Нашивка 10"/>
          <p:cNvSpPr/>
          <p:nvPr/>
        </p:nvSpPr>
        <p:spPr>
          <a:xfrm>
            <a:off x="4000680" y="3406680"/>
            <a:ext cx="201600" cy="258840"/>
          </a:xfrm>
          <a:custGeom>
            <a:avLst/>
            <a:gdLst>
              <a:gd name="textAreaLeft" fmla="*/ 0 w 201600"/>
              <a:gd name="textAreaRight" fmla="*/ 201960 w 2016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Нашивка 15"/>
          <p:cNvSpPr/>
          <p:nvPr/>
        </p:nvSpPr>
        <p:spPr>
          <a:xfrm>
            <a:off x="3795840" y="3406680"/>
            <a:ext cx="199800" cy="258840"/>
          </a:xfrm>
          <a:custGeom>
            <a:avLst/>
            <a:gdLst>
              <a:gd name="textAreaLeft" fmla="*/ 0 w 199800"/>
              <a:gd name="textAreaRight" fmla="*/ 200160 w 1998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3BCB24-3620-496E-B6EF-7CA112F1DF97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12"/>
          <p:cNvSpPr/>
          <p:nvPr/>
        </p:nvSpPr>
        <p:spPr>
          <a:xfrm>
            <a:off x="787320" y="5668920"/>
            <a:ext cx="4183200" cy="163512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Полилиния 11"/>
          <p:cNvSpPr/>
          <p:nvPr/>
        </p:nvSpPr>
        <p:spPr>
          <a:xfrm>
            <a:off x="-58680" y="6556320"/>
            <a:ext cx="4181400" cy="9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Прямоугольный треугольник 13"/>
          <p:cNvGrpSpPr/>
          <p:nvPr/>
        </p:nvGrpSpPr>
        <p:grpSpPr>
          <a:xfrm>
            <a:off x="-12600" y="6559560"/>
            <a:ext cx="3755880" cy="1236600"/>
            <a:chOff x="-12600" y="6559560"/>
            <a:chExt cx="3755880" cy="1236600"/>
          </a:xfrm>
        </p:grpSpPr>
        <p:pic>
          <p:nvPicPr>
            <p:cNvPr id="18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559560"/>
              <a:ext cx="3755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04920" y="7278840"/>
              <a:ext cx="18716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546960"/>
            <a:ext cx="3762360" cy="1255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7F289B-80F9-4FF0-ACF8-8BCA50264185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C905E3-C330-4BF9-9E45-E31186E5EB2C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олилиния 12"/>
          <p:cNvSpPr/>
          <p:nvPr/>
        </p:nvSpPr>
        <p:spPr>
          <a:xfrm>
            <a:off x="787320" y="5668920"/>
            <a:ext cx="4183200" cy="163512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Полилиния 11"/>
          <p:cNvSpPr/>
          <p:nvPr/>
        </p:nvSpPr>
        <p:spPr>
          <a:xfrm>
            <a:off x="-58680" y="6556320"/>
            <a:ext cx="4181400" cy="9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Прямоугольный треугольник 13"/>
          <p:cNvGrpSpPr/>
          <p:nvPr/>
        </p:nvGrpSpPr>
        <p:grpSpPr>
          <a:xfrm>
            <a:off x="-12600" y="6559560"/>
            <a:ext cx="3755880" cy="1236600"/>
            <a:chOff x="-12600" y="6559560"/>
            <a:chExt cx="3755880" cy="1236600"/>
          </a:xfrm>
        </p:grpSpPr>
        <p:pic>
          <p:nvPicPr>
            <p:cNvPr id="27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559560"/>
              <a:ext cx="3755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04920" y="7278840"/>
              <a:ext cx="18716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546960"/>
            <a:ext cx="3762360" cy="12556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3522ED-1190-449B-A014-6A34C93123A9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1B16F3-3B9A-4DC3-AC6F-26CCC6BE9A9D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олилиния 10"/>
          <p:cNvSpPr/>
          <p:nvPr/>
        </p:nvSpPr>
        <p:spPr>
          <a:xfrm>
            <a:off x="787320" y="5668920"/>
            <a:ext cx="4183200" cy="163512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Полилиния 15"/>
          <p:cNvSpPr/>
          <p:nvPr/>
        </p:nvSpPr>
        <p:spPr>
          <a:xfrm>
            <a:off x="-58680" y="6556320"/>
            <a:ext cx="4181400" cy="9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Прямоугольный треугольник 16"/>
          <p:cNvGrpSpPr/>
          <p:nvPr/>
        </p:nvGrpSpPr>
        <p:grpSpPr>
          <a:xfrm>
            <a:off x="-12600" y="6559560"/>
            <a:ext cx="3755880" cy="1236600"/>
            <a:chOff x="-12600" y="6559560"/>
            <a:chExt cx="3755880" cy="1236600"/>
          </a:xfrm>
        </p:grpSpPr>
        <p:pic>
          <p:nvPicPr>
            <p:cNvPr id="365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6559560"/>
              <a:ext cx="3755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04920" y="7278840"/>
              <a:ext cx="18716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7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6546960"/>
            <a:ext cx="3762360" cy="1255680"/>
          </a:xfrm>
          <a:prstGeom prst="rect">
            <a:avLst/>
          </a:prstGeom>
          <a:ln w="0">
            <a:noFill/>
          </a:ln>
        </p:spPr>
      </p:pic>
      <p:sp>
        <p:nvSpPr>
          <p:cNvPr id="368" name="Нашивка 19"/>
          <p:cNvSpPr/>
          <p:nvPr/>
        </p:nvSpPr>
        <p:spPr>
          <a:xfrm>
            <a:off x="9529920" y="5653080"/>
            <a:ext cx="201600" cy="260280"/>
          </a:xfrm>
          <a:custGeom>
            <a:avLst/>
            <a:gdLst>
              <a:gd name="textAreaLeft" fmla="*/ 0 w 201600"/>
              <a:gd name="textAreaRight" fmla="*/ 201960 w 2016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Нашивка 20"/>
          <p:cNvSpPr/>
          <p:nvPr/>
        </p:nvSpPr>
        <p:spPr>
          <a:xfrm>
            <a:off x="9325080" y="5653080"/>
            <a:ext cx="201600" cy="260280"/>
          </a:xfrm>
          <a:custGeom>
            <a:avLst/>
            <a:gdLst>
              <a:gd name="textAreaLeft" fmla="*/ 0 w 201600"/>
              <a:gd name="textAreaRight" fmla="*/ 201960 w 2016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E0C15E-C32D-4D57-80E1-07EA3AC55196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3"/>
          <p:cNvSpPr/>
          <p:nvPr/>
        </p:nvSpPr>
        <p:spPr>
          <a:xfrm>
            <a:off x="2508120" y="70549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bc1104"/>
                </a:solidFill>
                <a:latin typeface="Times New Roman"/>
              </a:rPr>
              <a:t>КГПИ</a:t>
            </a:r>
            <a:r>
              <a:rPr b="1" lang="en-GB" sz="2400" spc="-1" strike="noStrike">
                <a:solidFill>
                  <a:srgbClr val="bc1104"/>
                </a:solidFill>
                <a:latin typeface="Times New Roman"/>
              </a:rPr>
              <a:t>- 20</a:t>
            </a:r>
            <a:r>
              <a:rPr b="1" lang="ru-RU" sz="2400" spc="-1" strike="noStrike">
                <a:solidFill>
                  <a:srgbClr val="bc1104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AutoShape 4">
            <a:hlinkClick r:id="" action="ppaction://hlinkshowjump?jump=nextslide"/>
          </p:cNvPr>
          <p:cNvSpPr/>
          <p:nvPr/>
        </p:nvSpPr>
        <p:spPr>
          <a:xfrm>
            <a:off x="8991720" y="723888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2100240" y="1171440"/>
            <a:ext cx="56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етыре стихии, четыр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дствия и человек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6029280" y="502920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1104"/>
                </a:solidFill>
                <a:latin typeface="Garamond"/>
              </a:rPr>
              <a:t>Автор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5958000" y="54579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Панюкова Татья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"/>
          <p:cNvSpPr/>
          <p:nvPr/>
        </p:nvSpPr>
        <p:spPr>
          <a:xfrm>
            <a:off x="2365200" y="573120"/>
            <a:ext cx="715968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bc1104"/>
                </a:solidFill>
                <a:latin typeface="Arial"/>
              </a:rPr>
              <a:t>Творческое название проект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«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тыре стихии, четыр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дствия и человек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bc1104"/>
                </a:solidFill>
                <a:latin typeface="Arial"/>
              </a:rPr>
              <a:t>Аннотац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AutoShape 2">
            <a:hlinkClick r:id="" action="ppaction://hlinkshowjump?jump=previousslide"/>
          </p:cNvPr>
          <p:cNvSpPr/>
          <p:nvPr/>
        </p:nvSpPr>
        <p:spPr>
          <a:xfrm>
            <a:off x="8664480" y="72388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AutoShape 3">
            <a:hlinkClick r:id="" action="ppaction://hlinkshowjump?jump=nextslide"/>
          </p:cNvPr>
          <p:cNvSpPr/>
          <p:nvPr/>
        </p:nvSpPr>
        <p:spPr>
          <a:xfrm>
            <a:off x="9023400" y="722628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220840" y="2230560"/>
            <a:ext cx="734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ект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«Стихийные бедствия и человек» предназначен для учащихся 8 классов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Проект знакомит детей с четырьмя стихиями и бедствиями в них. Он основан на интеграции таких предметов, как ОБЖ, географ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Работая над проектом каждый ученик проявил свои склонности и интерес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Проект позволит детям освободиться от страха и избавиться от неуверенности перед стихийными бедствиями.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519280" y="2290320"/>
            <a:ext cx="7005600" cy="5629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87480" algn="just">
              <a:lnSpc>
                <a:spcPct val="80000"/>
              </a:lnSpc>
              <a:spcBef>
                <a:spcPts val="451"/>
              </a:spcBef>
              <a:spcAft>
                <a:spcPts val="1400"/>
              </a:spcAft>
              <a:tabLst>
                <a:tab algn="l" pos="0"/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c1104"/>
                </a:solidFill>
                <a:latin typeface="Lucida Sans Unicode"/>
              </a:rPr>
              <a:t>Вопросы учебной темы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algn="just">
              <a:lnSpc>
                <a:spcPct val="100000"/>
              </a:lnSpc>
              <a:spcBef>
                <a:spcPts val="451"/>
              </a:spcBef>
              <a:spcAft>
                <a:spcPts val="1049"/>
              </a:spcAft>
              <a:buClr>
                <a:srgbClr val="0000ff"/>
              </a:buClr>
              <a:buSzPct val="68000"/>
              <a:buFont typeface="Wingdings" charset="2"/>
              <a:buChar char=""/>
              <a:tabLst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Что Вы знаете о стихийных бедствиях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algn="just">
              <a:lnSpc>
                <a:spcPct val="100000"/>
              </a:lnSpc>
              <a:spcBef>
                <a:spcPts val="451"/>
              </a:spcBef>
              <a:spcAft>
                <a:spcPts val="1049"/>
              </a:spcAft>
              <a:buClr>
                <a:srgbClr val="0000ff"/>
              </a:buClr>
              <a:buSzPct val="68000"/>
              <a:buFont typeface="Wingdings" charset="2"/>
              <a:buChar char=""/>
              <a:tabLst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Какой из домов наиболее устойчив при землетрясении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algn="just">
              <a:lnSpc>
                <a:spcPct val="100000"/>
              </a:lnSpc>
              <a:spcBef>
                <a:spcPts val="451"/>
              </a:spcBef>
              <a:spcAft>
                <a:spcPts val="1049"/>
              </a:spcAft>
              <a:buClr>
                <a:srgbClr val="0000ff"/>
              </a:buClr>
              <a:buSzPct val="68000"/>
              <a:buFont typeface="Wingdings" charset="2"/>
              <a:buChar char=""/>
              <a:tabLst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Как предотвратить пожар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algn="just">
              <a:lnSpc>
                <a:spcPct val="100000"/>
              </a:lnSpc>
              <a:spcBef>
                <a:spcPts val="451"/>
              </a:spcBef>
              <a:spcAft>
                <a:spcPts val="1049"/>
              </a:spcAft>
              <a:buClr>
                <a:srgbClr val="0000ff"/>
              </a:buClr>
              <a:buSzPct val="68000"/>
              <a:buFont typeface="Wingdings" charset="2"/>
              <a:buChar char=""/>
              <a:tabLst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К чему приводит наводнение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algn="just">
              <a:lnSpc>
                <a:spcPct val="100000"/>
              </a:lnSpc>
              <a:spcBef>
                <a:spcPts val="451"/>
              </a:spcBef>
              <a:spcAft>
                <a:spcPts val="1049"/>
              </a:spcAft>
              <a:buClr>
                <a:srgbClr val="0000ff"/>
              </a:buClr>
              <a:buSzPct val="68000"/>
              <a:buFont typeface="Wingdings" charset="2"/>
              <a:buChar char=""/>
              <a:tabLst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Возможно ли остановить цунами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87480">
              <a:lnSpc>
                <a:spcPct val="80000"/>
              </a:lnSpc>
              <a:spcBef>
                <a:spcPts val="451"/>
              </a:spcBef>
              <a:spcAft>
                <a:spcPts val="1400"/>
              </a:spcAft>
              <a:tabLst>
                <a:tab algn="l" pos="0"/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c1104"/>
                </a:solidFill>
                <a:latin typeface="Lucida Sans Unicode"/>
              </a:rPr>
              <a:t>Темы исследований учащихся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7480">
              <a:lnSpc>
                <a:spcPct val="100000"/>
              </a:lnSpc>
              <a:spcBef>
                <a:spcPts val="451"/>
              </a:spcBef>
              <a:spcAft>
                <a:spcPts val="176"/>
              </a:spcAft>
              <a:tabLst>
                <a:tab algn="l" pos="0"/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«Стихийные бедствия: наводнения и цунами", «Пожары».</a:t>
            </a:r>
            <a:r>
              <a:rPr b="0" lang="en-GB" sz="400" spc="-1" strike="noStrike">
                <a:solidFill>
                  <a:srgbClr val="0000ff"/>
                </a:solidFill>
                <a:latin typeface="Garamond"/>
                <a:ea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1" descr=""/>
          <p:cNvPicPr/>
          <p:nvPr/>
        </p:nvPicPr>
        <p:blipFill>
          <a:blip r:embed="rId1"/>
          <a:stretch/>
        </p:blipFill>
        <p:spPr>
          <a:xfrm>
            <a:off x="2114640" y="96840"/>
            <a:ext cx="7950240" cy="249408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3">
            <a:hlinkClick r:id="" action="ppaction://hlinkshowjump?jump=nextslide"/>
          </p:cNvPr>
          <p:cNvSpPr/>
          <p:nvPr/>
        </p:nvSpPr>
        <p:spPr>
          <a:xfrm>
            <a:off x="9061560" y="727092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25042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4">
            <a:hlinkClick r:id="" action="ppaction://hlinkshowjump?jump=previousslide"/>
          </p:cNvPr>
          <p:cNvSpPr/>
          <p:nvPr/>
        </p:nvSpPr>
        <p:spPr>
          <a:xfrm>
            <a:off x="8694720" y="725328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10800"/>
                </a:moveTo>
                <a:lnTo>
                  <a:pt x="25012" y="3794"/>
                </a:lnTo>
                <a:lnTo>
                  <a:pt x="25012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457200" y="45720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2149560" y="573120"/>
            <a:ext cx="7543800" cy="70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6600"/>
                </a:solidFill>
                <a:latin typeface="Garamond"/>
                <a:ea typeface="Times New Roman"/>
              </a:rPr>
              <a:t>Формировани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ответственного отношения  личному здоровью как индивидуальной и общественной цен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предвидеть возникновение опасных и чрезвычайных ситуаций по характерным признакам их появления, а так же  принимать обоснованные решения и разрабатывать план своих действий в конкретной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опасной ситуации с учетом реальной обстановки своих возможностей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знаний  об опасных и чрезвычайных ситуациях, о влиянии их последствий на безопасность личности, общества и государства; о государственной системе обеспечения безопасности населения в чрезвычайных ситуациях; об организации подготовки населения к действиям в условиях опасных и чрезвычайных ситуац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6600"/>
                </a:solidFill>
                <a:latin typeface="Garamond"/>
                <a:ea typeface="Times New Roman"/>
              </a:rPr>
              <a:t>Развити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личных духовных и физических качеств, обеспечивающих адекватное поведение в опасных и чрезвычайных ситуациях природного и техногенного характера;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2">
            <a:hlinkClick r:id="" action="ppaction://hlinkshowjump?jump=nextslide"/>
          </p:cNvPr>
          <p:cNvSpPr/>
          <p:nvPr/>
        </p:nvSpPr>
        <p:spPr>
          <a:xfrm>
            <a:off x="9016920" y="7238880"/>
            <a:ext cx="355680" cy="204840"/>
          </a:xfrm>
          <a:custGeom>
            <a:avLst/>
            <a:gdLst>
              <a:gd name="textAreaLeft" fmla="*/ 12960 w 355680"/>
              <a:gd name="textAreaRight" fmla="*/ 342720 w 35568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478" h="21600">
                <a:moveTo>
                  <a:pt x="0" y="0"/>
                </a:moveTo>
                <a:lnTo>
                  <a:pt x="37478" y="0"/>
                </a:lnTo>
                <a:lnTo>
                  <a:pt x="37478" y="21600"/>
                </a:lnTo>
                <a:lnTo>
                  <a:pt x="0" y="21600"/>
                </a:lnTo>
                <a:close/>
              </a:path>
              <a:path fill="lightenLess" w="37478" h="21600">
                <a:moveTo>
                  <a:pt x="0" y="0"/>
                </a:moveTo>
                <a:lnTo>
                  <a:pt x="37478" y="0"/>
                </a:lnTo>
                <a:lnTo>
                  <a:pt x="36078" y="1400"/>
                </a:lnTo>
                <a:lnTo>
                  <a:pt x="1400" y="1400"/>
                </a:lnTo>
                <a:close/>
              </a:path>
              <a:path fill="darken" w="37478" h="21600">
                <a:moveTo>
                  <a:pt x="37478" y="0"/>
                </a:moveTo>
                <a:lnTo>
                  <a:pt x="37478" y="21600"/>
                </a:lnTo>
                <a:lnTo>
                  <a:pt x="36078" y="20200"/>
                </a:lnTo>
                <a:lnTo>
                  <a:pt x="36078" y="1400"/>
                </a:lnTo>
                <a:close/>
              </a:path>
              <a:path fill="darkenLess" w="37478" h="21600">
                <a:moveTo>
                  <a:pt x="37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78" y="20200"/>
                </a:lnTo>
                <a:close/>
              </a:path>
              <a:path fill="lighten" w="37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78" h="21600">
                <a:moveTo>
                  <a:pt x="11732" y="3794"/>
                </a:moveTo>
                <a:lnTo>
                  <a:pt x="25745" y="10800"/>
                </a:lnTo>
                <a:lnTo>
                  <a:pt x="11732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AutoShape 3">
            <a:hlinkClick r:id="" action="ppaction://hlinkshowjump?jump=previousslide"/>
          </p:cNvPr>
          <p:cNvSpPr/>
          <p:nvPr/>
        </p:nvSpPr>
        <p:spPr>
          <a:xfrm>
            <a:off x="8664480" y="72388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2292480" y="114948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Rectangle 5" descr=""/>
          <p:cNvPicPr/>
          <p:nvPr/>
        </p:nvPicPr>
        <p:blipFill>
          <a:blip r:embed="rId1"/>
          <a:stretch/>
        </p:blipFill>
        <p:spPr>
          <a:xfrm>
            <a:off x="2041560" y="12600"/>
            <a:ext cx="6973920" cy="682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buClr>
                <a:srgbClr val="0000ff"/>
              </a:buClr>
              <a:buSzPct val="68000"/>
              <a:buFont typeface="Times New Roman"/>
              <a:buChar char="•"/>
              <a:tabLst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Ознакомить учащихся со стихийными бедствиям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buClr>
                <a:srgbClr val="0000ff"/>
              </a:buClr>
              <a:buSzPct val="68000"/>
              <a:buFont typeface="Times New Roman"/>
              <a:buChar char="•"/>
              <a:tabLst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Научить правильно «встречать» опасность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buClr>
                <a:srgbClr val="0000ff"/>
              </a:buClr>
              <a:buSzPct val="68000"/>
              <a:buFont typeface="Times New Roman"/>
              <a:buChar char="•"/>
              <a:tabLst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Формирование у учащихся ответственного отношения к вопросам личной безопасности и безопасности окружающих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buClr>
                <a:srgbClr val="0000ff"/>
              </a:buClr>
              <a:buSzPct val="68000"/>
              <a:buFont typeface="Times New Roman"/>
              <a:buChar char="•"/>
              <a:tabLst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Развить творческие способности учащихс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buClr>
                <a:srgbClr val="0000ff"/>
              </a:buClr>
              <a:buSzPct val="68000"/>
              <a:buFont typeface="Times New Roman"/>
              <a:buChar char="•"/>
              <a:tabLst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Научить строить собственное научное исследование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tabLst>
                <a:tab algn="l" pos="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Rectangle 1" descr=""/>
          <p:cNvPicPr/>
          <p:nvPr/>
        </p:nvPicPr>
        <p:blipFill>
          <a:blip r:embed="rId1"/>
          <a:stretch/>
        </p:blipFill>
        <p:spPr>
          <a:xfrm>
            <a:off x="2236680" y="847800"/>
            <a:ext cx="6973920" cy="1176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2292480" y="501480"/>
            <a:ext cx="70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2292480" y="285840"/>
            <a:ext cx="698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bc1104"/>
                </a:solidFill>
                <a:latin typeface="Garamond"/>
              </a:rPr>
              <a:t>Этапы и сроки проведения проек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AutoShape 3">
            <a:hlinkClick r:id="" action="ppaction://hlinkshowjump?jump=nextslide"/>
          </p:cNvPr>
          <p:cNvSpPr/>
          <p:nvPr/>
        </p:nvSpPr>
        <p:spPr>
          <a:xfrm>
            <a:off x="9055080" y="7251840"/>
            <a:ext cx="355680" cy="204480"/>
          </a:xfrm>
          <a:custGeom>
            <a:avLst/>
            <a:gdLst>
              <a:gd name="textAreaLeft" fmla="*/ 12960 w 355680"/>
              <a:gd name="textAreaRight" fmla="*/ 342720 w 355680"/>
              <a:gd name="textAreaTop" fmla="*/ 12960 h 204480"/>
              <a:gd name="textAreaBottom" fmla="*/ 191520 h 204480"/>
            </a:gdLst>
            <a:ahLst/>
            <a:rect l="textAreaLeft" t="textAreaTop" r="textAreaRight" b="textAreaBottom"/>
            <a:pathLst>
              <a:path w="37544" h="21600">
                <a:moveTo>
                  <a:pt x="0" y="0"/>
                </a:moveTo>
                <a:lnTo>
                  <a:pt x="37544" y="0"/>
                </a:lnTo>
                <a:lnTo>
                  <a:pt x="37544" y="21600"/>
                </a:lnTo>
                <a:lnTo>
                  <a:pt x="0" y="21600"/>
                </a:lnTo>
                <a:close/>
              </a:path>
              <a:path fill="lightenLess" w="37544" h="21600">
                <a:moveTo>
                  <a:pt x="0" y="0"/>
                </a:moveTo>
                <a:lnTo>
                  <a:pt x="37544" y="0"/>
                </a:lnTo>
                <a:lnTo>
                  <a:pt x="36144" y="1400"/>
                </a:lnTo>
                <a:lnTo>
                  <a:pt x="1400" y="1400"/>
                </a:lnTo>
                <a:close/>
              </a:path>
              <a:path fill="darken" w="37544" h="21600">
                <a:moveTo>
                  <a:pt x="37544" y="0"/>
                </a:moveTo>
                <a:lnTo>
                  <a:pt x="37544" y="21600"/>
                </a:lnTo>
                <a:lnTo>
                  <a:pt x="36144" y="20200"/>
                </a:lnTo>
                <a:lnTo>
                  <a:pt x="36144" y="1400"/>
                </a:lnTo>
                <a:close/>
              </a:path>
              <a:path fill="darkenLess" w="37544" h="21600">
                <a:moveTo>
                  <a:pt x="37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44" y="20200"/>
                </a:lnTo>
                <a:close/>
              </a:path>
              <a:path fill="lighten" w="37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44" h="21600">
                <a:moveTo>
                  <a:pt x="11765" y="3794"/>
                </a:moveTo>
                <a:lnTo>
                  <a:pt x="25778" y="10800"/>
                </a:lnTo>
                <a:lnTo>
                  <a:pt x="11765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AutoShape 4">
            <a:hlinkClick r:id="" action="ppaction://hlinkshowjump?jump=previousslide"/>
          </p:cNvPr>
          <p:cNvSpPr/>
          <p:nvPr/>
        </p:nvSpPr>
        <p:spPr>
          <a:xfrm>
            <a:off x="8693280" y="72532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220480" y="861480"/>
            <a:ext cx="7456680" cy="6729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ыбор темы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1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мерные темы и направления исследований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ребования и критерии оценк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Формирование творческих групп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1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спределение поручений в команд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учение плана действий согласно выбранной рол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дбор материала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1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нализ данных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ие источников информаци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ие способов сбора информаци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ие способа представления результатов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оздание презентации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2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оздание публикации и веб-сайта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3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щита проведенных исследований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3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бор членов жюри (учителя-предметники)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ступления команд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усси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з зрительских симпатий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3">
            <a:hlinkClick r:id="" action="ppaction://hlinkshowjump?jump=previousslide"/>
          </p:cNvPr>
          <p:cNvSpPr/>
          <p:nvPr/>
        </p:nvSpPr>
        <p:spPr>
          <a:xfrm>
            <a:off x="8666280" y="72532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AutoShape 4">
            <a:hlinkClick r:id="" action="ppaction://hlinkshowjump?jump=endshow"/>
          </p:cNvPr>
          <p:cNvSpPr/>
          <p:nvPr/>
        </p:nvSpPr>
        <p:spPr>
          <a:xfrm>
            <a:off x="9029880" y="7251840"/>
            <a:ext cx="355320" cy="204480"/>
          </a:xfrm>
          <a:custGeom>
            <a:avLst/>
            <a:gdLst>
              <a:gd name="textAreaLeft" fmla="*/ 12960 w 355320"/>
              <a:gd name="textAreaRight" fmla="*/ 342360 w 355320"/>
              <a:gd name="textAreaTop" fmla="*/ 12960 h 204480"/>
              <a:gd name="textAreaBottom" fmla="*/ 191520 h 204480"/>
            </a:gdLst>
            <a:ahLst/>
            <a:rect l="textAreaLeft" t="textAreaTop" r="textAreaRight" b="textAreaBottom"/>
            <a:pathLst>
              <a:path w="37506" h="21600">
                <a:moveTo>
                  <a:pt x="0" y="0"/>
                </a:moveTo>
                <a:lnTo>
                  <a:pt x="37506" y="0"/>
                </a:lnTo>
                <a:lnTo>
                  <a:pt x="37506" y="21600"/>
                </a:lnTo>
                <a:lnTo>
                  <a:pt x="0" y="21600"/>
                </a:lnTo>
                <a:close/>
              </a:path>
              <a:path fill="lightenLess" w="37506" h="21600">
                <a:moveTo>
                  <a:pt x="0" y="0"/>
                </a:moveTo>
                <a:lnTo>
                  <a:pt x="37506" y="0"/>
                </a:lnTo>
                <a:lnTo>
                  <a:pt x="36106" y="1400"/>
                </a:lnTo>
                <a:lnTo>
                  <a:pt x="1400" y="1400"/>
                </a:lnTo>
                <a:close/>
              </a:path>
              <a:path fill="darken" w="37506" h="21600">
                <a:moveTo>
                  <a:pt x="37506" y="0"/>
                </a:moveTo>
                <a:lnTo>
                  <a:pt x="37506" y="21600"/>
                </a:lnTo>
                <a:lnTo>
                  <a:pt x="36106" y="20200"/>
                </a:lnTo>
                <a:lnTo>
                  <a:pt x="36106" y="1400"/>
                </a:lnTo>
                <a:close/>
              </a:path>
              <a:path fill="darkenLess" w="37506" h="21600">
                <a:moveTo>
                  <a:pt x="37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06" y="20200"/>
                </a:lnTo>
                <a:close/>
              </a:path>
              <a:path fill="lighten" w="37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06" h="21600">
                <a:moveTo>
                  <a:pt x="18753" y="3837"/>
                </a:moveTo>
                <a:lnTo>
                  <a:pt x="21329" y="6448"/>
                </a:lnTo>
                <a:lnTo>
                  <a:pt x="21329" y="4707"/>
                </a:lnTo>
                <a:lnTo>
                  <a:pt x="23105" y="4707"/>
                </a:lnTo>
                <a:lnTo>
                  <a:pt x="23105" y="8224"/>
                </a:lnTo>
                <a:lnTo>
                  <a:pt x="25716" y="10800"/>
                </a:lnTo>
                <a:lnTo>
                  <a:pt x="24062" y="10800"/>
                </a:lnTo>
                <a:lnTo>
                  <a:pt x="24062" y="17989"/>
                </a:lnTo>
                <a:lnTo>
                  <a:pt x="13444" y="17989"/>
                </a:lnTo>
                <a:lnTo>
                  <a:pt x="13444" y="10800"/>
                </a:lnTo>
                <a:lnTo>
                  <a:pt x="11790" y="10800"/>
                </a:lnTo>
                <a:close/>
              </a:path>
              <a:path fill="darkenLess" w="37506" h="21600">
                <a:moveTo>
                  <a:pt x="21329" y="6448"/>
                </a:moveTo>
                <a:lnTo>
                  <a:pt x="21329" y="4707"/>
                </a:lnTo>
                <a:lnTo>
                  <a:pt x="23105" y="4707"/>
                </a:lnTo>
                <a:lnTo>
                  <a:pt x="23105" y="8224"/>
                </a:lnTo>
                <a:close/>
              </a:path>
              <a:path fill="darkenLess" w="37506" h="21600">
                <a:moveTo>
                  <a:pt x="17830" y="14299"/>
                </a:moveTo>
                <a:lnTo>
                  <a:pt x="19675" y="14299"/>
                </a:lnTo>
                <a:lnTo>
                  <a:pt x="19675" y="17989"/>
                </a:lnTo>
                <a:lnTo>
                  <a:pt x="24062" y="17989"/>
                </a:lnTo>
                <a:lnTo>
                  <a:pt x="24062" y="10800"/>
                </a:lnTo>
                <a:lnTo>
                  <a:pt x="13444" y="10800"/>
                </a:lnTo>
                <a:lnTo>
                  <a:pt x="13444" y="17989"/>
                </a:lnTo>
                <a:lnTo>
                  <a:pt x="17830" y="17989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Заголовок 7" descr=""/>
          <p:cNvPicPr/>
          <p:nvPr/>
        </p:nvPicPr>
        <p:blipFill>
          <a:blip r:embed="rId1"/>
          <a:stretch/>
        </p:blipFill>
        <p:spPr>
          <a:xfrm>
            <a:off x="450720" y="1620720"/>
            <a:ext cx="9064800" cy="1940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bster</cp:lastModifiedBy>
  <dcterms:modified xsi:type="dcterms:W3CDTF">2010-06-02T18:44:10Z</dcterms:modified>
  <cp:revision>2</cp:revision>
  <dc:subject/>
  <dc:title>Слайд 1</dc:title>
</cp:coreProperties>
</file>